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355-F823-4C07-B958-E4B3043E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B01-97A6-4819-B753-2864EE63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CB0-E838-4A61-BCA0-8A4FB536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026-53E3-4E95-8C99-B1EAF565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BB9-DA60-42C6-9535-3F5EA3B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128-276D-46CC-8E22-DD413991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1EB-30BF-40FA-B8B4-5F473A00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828-D216-4689-A0E8-3B68876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ADD-EC4F-4C3F-8AE3-7C25A32B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173-0150-4573-9057-27E8C3B8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EFC-CF1A-4734-91E6-3AE204AE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12F-7293-430D-AB36-89746B6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5C80-A2ED-4D25-AED3-FE5302BFC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4720" y="333000"/>
            <a:ext cx="3959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lie Østergaard Mortensen ;)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867280" y="2060640"/>
            <a:ext cx="327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Hello;), my name is Amalie Østergaard Mortensen ;), im 13 years old and goes i 7 class. I love all of my friends and my best friend Cecilie 8D, i have a horse called Kahlua 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411640" cy="46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2916360" cy="345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59280" y="3860640"/>
            <a:ext cx="4032360" cy="1008360"/>
          </a:xfrm>
          <a:prstGeom prst="leftArrow">
            <a:avLst>
              <a:gd name="adj1" fmla="val 50000"/>
              <a:gd name="adj2" fmla="val 999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33360"/>
            <a:ext cx="1296720" cy="1511280"/>
          </a:xfrm>
          <a:custGeom>
            <a:avLst/>
            <a:gdLst>
              <a:gd name="textAreaLeft" fmla="*/ 304560 w 1296720"/>
              <a:gd name="textAreaRight" fmla="*/ 991080 w 1296720"/>
              <a:gd name="textAreaTop" fmla="*/ 177480 h 1511280"/>
              <a:gd name="textAreaBottom" fmla="*/ 947880 h 151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522936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n my spare time i ride, and together with my friends.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 have brown hair and blue eyes. ;), i have a diamond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om my tooth ;D, i really love my mom, dad and big brother </a:t>
            </a:r>
            <a:r>
              <a:rPr b="0" lang="da-DK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907920"/>
            <a:ext cx="576360" cy="865440"/>
          </a:xfrm>
          <a:custGeom>
            <a:avLst/>
            <a:gdLst>
              <a:gd name="textAreaLeft" fmla="*/ 135360 w 576360"/>
              <a:gd name="textAreaRight" fmla="*/ 440640 w 576360"/>
              <a:gd name="textAreaTop" fmla="*/ 101520 h 865440"/>
              <a:gd name="textAreaBottom" fmla="*/ 542880 h 865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936360" cy="792360"/>
          </a:xfrm>
          <a:custGeom>
            <a:avLst/>
            <a:gdLst>
              <a:gd name="textAreaLeft" fmla="*/ 219960 w 936360"/>
              <a:gd name="textAreaRight" fmla="*/ 715680 w 936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4221000"/>
            <a:ext cx="684000" cy="505080"/>
          </a:xfrm>
          <a:custGeom>
            <a:avLst/>
            <a:gdLst>
              <a:gd name="textAreaLeft" fmla="*/ 160560 w 684000"/>
              <a:gd name="textAreaRight" fmla="*/ 522720 w 684000"/>
              <a:gd name="textAreaTop" fmla="*/ 59400 h 505080"/>
              <a:gd name="textAreaBottom" fmla="*/ 316800 h 505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508640"/>
            <a:ext cx="792360" cy="1655640"/>
          </a:xfrm>
          <a:custGeom>
            <a:avLst/>
            <a:gdLst>
              <a:gd name="textAreaLeft" fmla="*/ 186120 w 792360"/>
              <a:gd name="textAreaRight" fmla="*/ 605520 w 792360"/>
              <a:gd name="textAreaTop" fmla="*/ 194400 h 1655640"/>
              <a:gd name="textAreaBottom" fmla="*/ 1038600 h 165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14:06Z</dcterms:created>
  <dc:creator>02a1</dc:creator>
  <dc:description/>
  <dc:language>en-US</dc:language>
  <cp:lastModifiedBy>02a1</cp:lastModifiedBy>
  <dcterms:modified xsi:type="dcterms:W3CDTF">2010-02-09T09:45:52Z</dcterms:modified>
  <cp:revision>2</cp:revision>
  <dc:subject/>
  <dc:title>Amalie Østergaard Mortensen ;);)</dc:title>
</cp:coreProperties>
</file>